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C5B-42E4-4AD2-AD1D-9FCD4328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B3D-7706-4DD0-A801-BE8D72E0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9E3-44FB-468B-B3C8-DFBCBBD4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B93-8579-4B75-A042-4821F550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8EF-DF5B-4C24-99DC-76F5D861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732-496D-4CBC-A95C-D40471B5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01A-C934-466A-9A26-1D82CB1E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226-E91D-43EE-8DB0-3C278F60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352-44B3-4F18-B649-CC7917F7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A5A-88D4-48E8-BD33-BEC7388E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EE3-6FEA-42F0-9543-2C4ECB2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2A0-2665-463C-ABA4-F98393C0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F2033-122A-40FF-B096-2E80FA71E23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435600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8T17:02:26Z</dcterms:created>
  <dc:creator>Imprensa Uepg</dc:creator>
  <dc:description/>
  <dc:language>en-US</dc:language>
  <cp:lastModifiedBy>Imprensa Uepg</cp:lastModifiedBy>
  <dcterms:modified xsi:type="dcterms:W3CDTF">2021-11-08T17:05:56Z</dcterms:modified>
  <cp:revision>1</cp:revision>
  <dc:subject/>
  <dc:title>Apresentação do PowerPoint</dc:title>
</cp:coreProperties>
</file>