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31A-6BC9-46DE-BF9E-8B370916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21B-027D-43B4-BE12-668D4687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D67-06AE-4C8E-85AC-70C27A93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B0D-0C51-40DA-8C0F-7DCE29E1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5C9-3C1C-403E-919F-33817A47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385-9D71-4163-901B-B3E2523E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5AB-EF30-4A90-B497-C5C91BE7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0C9-9210-4BBB-8469-6B83DBE8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64B-A2D4-4328-AE01-9FA8AB3F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5B2-45D2-4459-ABFA-963323B1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93A-2DB1-4863-A246-C684D513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784-F735-4B63-8A2A-FBE5910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B4DD-4F23-4A56-92EA-E1A574EECE7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m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20908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45702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m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8T15:18:41Z</dcterms:created>
  <dc:creator>Imprensa Uepg</dc:creator>
  <dc:description/>
  <dc:language>en-US</dc:language>
  <cp:lastModifiedBy>Imprensa Uepg</cp:lastModifiedBy>
  <dcterms:modified xsi:type="dcterms:W3CDTF">2021-11-08T17:01:53Z</dcterms:modified>
  <cp:revision>3</cp:revision>
  <dc:subject/>
  <dc:title>Apresentação do PowerPoint</dc:title>
</cp:coreProperties>
</file>